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B3ABC-7474-441D-BEC0-B2CF77D8E9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02508-3388-45C5-92F0-548D679B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71BAD-6667-4AEA-8648-9DD2AE8B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47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00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71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47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00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68DB-158E-478E-A8B3-6C9143B8B6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B49C-D09C-4461-B413-2E864939B9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6B5A-105D-4C8B-AE04-0A03A64CD5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5869-2D6B-4FB2-8F73-4D4E387A9B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3BC5-7242-4989-8D01-7E71A5B616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48A6-BD09-4A2A-B248-2644F9A844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6800" y="227160"/>
            <a:ext cx="8691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A685-6273-43F7-9C1D-64BA12A91F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08C3-1044-4E3F-9F0D-1FD3627C35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BEBF-ADDA-4D0A-B0F9-4A6E3E07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C9FF-7876-4283-8778-063FFBB289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4131-3089-47A5-9BED-ADBCB94298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0DF8-B7D9-4C5B-B8D7-F701623786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42CA-6DB6-4A2E-A94C-CAE3CD1D6F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47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00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71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47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00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B01D-471B-4A3E-8CEB-5A7A152BD3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B0337-D141-42AD-847C-7BDAD98E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DCFCE-D261-4339-949C-158D7CF8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AFE5A-BC39-4AD6-B166-CD96F365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27160"/>
            <a:ext cx="8691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8961D-19D9-4882-B1B6-822FCC1C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2D131-1629-451E-946C-A1D8D94C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93FD2-0372-4AB5-9658-24D938F7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0E2EF-E0D9-4241-A64C-09FE8684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911160" indent="-22068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911160" indent="-22068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22824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000CA4EE-5158-418D-B72D-BB2BD42E9B93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371840" y="6377040"/>
            <a:ext cx="1865520" cy="414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pril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271160"/>
            <a:ext cx="4114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ldNum" idx="3"/>
          </p:nvPr>
        </p:nvSpPr>
        <p:spPr>
          <a:xfrm>
            <a:off x="22824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1416BB25-507D-4AB0-872F-9B53ACFBDED4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371840" y="6377040"/>
            <a:ext cx="186552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1271520"/>
            <a:ext cx="411480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Agilent</a:t>
            </a:r>
            <a:br>
              <a:rPr sz="2800"/>
            </a:b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riple Play Analy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1278000"/>
            <a:ext cx="41148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to quickly solve problems in today’s complex Triple Play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171960" cy="320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495680" y="4572000"/>
            <a:ext cx="4191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riple Play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Post Process Measurements: (Configuration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61272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Data in real-time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2819520"/>
            <a:ext cx="57434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Post Process Measurements: (Configuration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61272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y the data in T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272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38200" y="2328840"/>
            <a:ext cx="62690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Post Process Measurements: (Configuration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61272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and Open the Data in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272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62040" y="2300400"/>
            <a:ext cx="421992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hreshold (Configuration)</a:t>
            </a:r>
            <a:br>
              <a:rPr sz="2800"/>
            </a:b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48640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Event (Configuration)</a:t>
            </a:r>
            <a:br>
              <a:rPr sz="2800"/>
            </a:b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166840" y="990720"/>
            <a:ext cx="48103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Action (Configuration)</a:t>
            </a:r>
            <a:br>
              <a:rPr sz="2800"/>
            </a:b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5120" y="766800"/>
            <a:ext cx="533376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Logging Configuration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5530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riple Play Statistics View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6800" y="1266480"/>
            <a:ext cx="4267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, Voice &amp; Data all in one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Ut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f Data 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f MPEG-TS 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f  RTP Video &amp; Voice 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46520" y="2246400"/>
            <a:ext cx="426888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RTP Statistics View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6800" y="1266480"/>
            <a:ext cx="4267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o 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ter, MOS, R factor, Throughput, Payload type, Loss, Delay, Real-time Audio output 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 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ter, Holes (RF3357), MDI (DF &amp; LR), Throughput, CBR, Loss, Out of Sequenc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46520" y="2246400"/>
            <a:ext cx="426888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MPEG Transport Stream View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6800" y="1266480"/>
            <a:ext cx="4267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Transport Stream &amp; Program Statist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I Delay Factor &amp; Lost Rate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 &amp; PMT Rate, Errors, etc. (PSI)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R Rate, Errors, etc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urious Packets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 Byte Errors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 Errors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lnSpc>
                <a:spcPct val="90000"/>
              </a:lnSpc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lnSpc>
                <a:spcPct val="9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46520" y="2244600"/>
            <a:ext cx="42688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Goals…..</a:t>
            </a:r>
            <a:endParaRPr b="1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use th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lnSpc>
                <a:spcPct val="9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lnSpc>
                <a:spcPct val="9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apture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lnSpc>
                <a:spcPct val="9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sholds\Events\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lnSpc>
                <a:spcPct val="9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lnSpc>
                <a:spcPct val="9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you comfortable using th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tool to find errors for you (the custo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lnSpc>
                <a:spcPct val="9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error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w, Cool, Wiz bang 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lnSpc>
                <a:spcPct val="9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ptures the ‘eye’ and what customers rememb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lnSpc>
                <a:spcPct val="9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MPEG Transport Stream View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6800" y="1266480"/>
            <a:ext cx="4267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PID statistics)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l values are per P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put (Min, Max &amp; Avg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t Packets (Min, Max &amp; Avg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Dropou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icate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ering of Real-time Video and Aud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46520" y="2244600"/>
            <a:ext cx="42688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MPEG PES Video Statistics View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6800" y="1266480"/>
            <a:ext cx="4267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ect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 MOS Degra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P Pattern (length, matches, mismatch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 Statistics (Throughput (Min, Max &amp; Avg.), Loss, etc) for I, B and P frames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ing of Video in Nativ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6520" y="2246400"/>
            <a:ext cx="426888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Video Control Statistics View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6800" y="1266480"/>
            <a:ext cx="4267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ers (STB’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dder diagram (shows Joins, Leaves, RTSP commands (Play, Pause, Fast Forward, Rewind and S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TV ICC and IPTV Zap response times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, Max and Avg. for Failed Joins, Leav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46520" y="2246400"/>
            <a:ext cx="426888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Active IGMP Statistics View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6800" y="1266480"/>
            <a:ext cx="4267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 Grou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dder diagram (shows Joins, Leaves, RTSP commands (Play, Pause, Fast Forward, Rewind and S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the following measurement val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ers, Joins, Failed Joins, Leaves, Group-Specific Queries, Unanswered Queries, Zap Time and Respons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0" y="1295280"/>
            <a:ext cx="441648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Network Vitals Statistics View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6800" y="1266480"/>
            <a:ext cx="4267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specific Measu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P Packets, Broadcasts Throughput, Multicast Throughput, TTL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6520" y="1266840"/>
            <a:ext cx="42688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Practical…..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to a DNA Pro via MU Server and make the following measu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R J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I 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of Sequence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Zap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B Buffer siz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P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Practical…..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via a NIC and perform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up a Threshold, Alarm and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Frame, B Frame or P Frame Lost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 Degradation for a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 the Video Nativ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 Video &amp; 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 Ut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P MOS 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ure Data in TPA then in Post Process mode replay the data in T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ata and open in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So what did you find? 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6800" y="1266480"/>
            <a:ext cx="4267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R Ji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I L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 of Sequence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Zap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B Buffer size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P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up a Threshold, Alarm and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6520" y="1266480"/>
            <a:ext cx="42688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Frame , B Frame or P Frame Lost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 Degradation for a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 the Video Nativ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 Video &amp; 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 Ut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P MOS 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Decodes, Splice Point CC valu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Wow, Cool, Wiz bang Factors</a:t>
            </a:r>
            <a:br>
              <a:rPr sz="2800"/>
            </a:b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done on all Data, Voice and Video at once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T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ering of Native Size Video, GOP Pattern and Frame Type Loss (QoE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MPEG PES Measur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ering of Video and Audi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MPEG-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p Diagram and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an Error or something that should not be the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304560">
              <a:lnSpc>
                <a:spcPct val="90000"/>
              </a:lnSpc>
              <a:spcAft>
                <a:spcPts val="675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304560">
              <a:lnSpc>
                <a:spcPct val="90000"/>
              </a:lnSpc>
              <a:spcAft>
                <a:spcPts val="675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C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304560">
              <a:lnSpc>
                <a:spcPct val="90000"/>
              </a:lnSpc>
              <a:spcAft>
                <a:spcPts val="675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R J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304560">
              <a:lnSpc>
                <a:spcPct val="90000"/>
              </a:lnSpc>
              <a:spcAft>
                <a:spcPts val="675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0">
              <a:lnSpc>
                <a:spcPct val="90000"/>
              </a:lnSpc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nfiguration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 Configuration selected from the Application by selecting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pe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324000" cy="285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438280" y="2133720"/>
            <a:ext cx="4222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General Config &amp; MPEG-TS Config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7160" y="1266840"/>
            <a:ext cx="4267080" cy="4560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6520" y="1266840"/>
            <a:ext cx="42688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RTPConfig &amp; RTP Gateway Config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7160" y="1266840"/>
            <a:ext cx="4267080" cy="4560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6520" y="1266840"/>
            <a:ext cx="42688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Aft>
                <a:spcPts val="12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Measu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2720" indent="-380880">
              <a:spcAft>
                <a:spcPts val="675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RO RTSM, MU and T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2720" indent="-380880">
              <a:spcAft>
                <a:spcPts val="675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Interface Card (NI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272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272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2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2720" indent="-380880">
              <a:spcAft>
                <a:spcPts val="675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Data in real-time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2720" indent="-380880">
              <a:spcAft>
                <a:spcPts val="675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y the data in T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2720" indent="-380880">
              <a:spcAft>
                <a:spcPts val="675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 and Open the Data in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How to use the tool….</a:t>
            </a:r>
            <a:endParaRPr b="1" lang="en-US" sz="2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Real-time Measurements: (Configuration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57456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 PRO RTSM, MU and T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76360" y="2185920"/>
            <a:ext cx="619128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Real-time Measurements: (Configuration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57456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Interface 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28840" y="2290680"/>
            <a:ext cx="62881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Real-time Measurements: (Configuration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57456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Interface Card (Fil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4114800"/>
            <a:ext cx="4314960" cy="1685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066680" y="1752480"/>
            <a:ext cx="5762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5:14:34Z</dcterms:created>
  <dc:creator>Michael Stevens</dc:creator>
  <dc:description/>
  <dc:language>en-US</dc:language>
  <cp:lastModifiedBy>Michael Stevens</cp:lastModifiedBy>
  <dcterms:modified xsi:type="dcterms:W3CDTF">2007-05-31T00:17:37Z</dcterms:modified>
  <cp:revision>25</cp:revision>
  <dc:subject/>
  <dc:title>Slide 1</dc:title>
</cp:coreProperties>
</file>